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0E2-08F6-45E1-86D6-329EBA15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1BD-582C-43CF-85D1-7C46C059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217-DC20-4D57-8878-C585E340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35C-4ACF-470D-A101-E9DAAEF2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4767-E4E0-4808-BDBA-C8BB0E4A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296-C55C-4051-972C-E7DF62EE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5277-F784-4132-AA12-D2EB6E64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3BFB-5C89-4123-A88A-BDB8C89E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DEEF-E5BA-4EC2-9DBA-6ECB5F98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F7E0-520D-4D47-8169-7C679D77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A81B-0D24-4093-8BDC-04C4DA71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043-C7F9-4827-8405-A28864CB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7978-7DCF-480C-B485-8DEC5983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F786-6326-4663-B7AC-82BFDC5B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FB2A-767B-42F3-A7F4-38FE7952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8882-8FB7-4C94-947D-8FA92F99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8B5F-570C-47B4-9AC6-AB9E4C68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753-4521-42B5-9A94-14FFA651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6C0-D5EA-4156-A592-BE93A460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481-D896-478D-9289-B732FB7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917-7DB3-4C40-B034-D338D50B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148-EC45-48E5-A95A-D218DFAC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2E7-F876-4E61-A6C9-BB26AA4E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AD0-C5EB-4367-A51D-8F31E3D1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F0B7-F793-4701-B077-0CA27769FC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EBEC-D17F-4E28-92A1-E0E23869F7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52280"/>
            <a:ext cx="8686800" cy="65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ine should look something like th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al:  Blah blah blah blah  (what you wrote on your workshe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tion  (Write a brief explanation of what kind of strategy you will take when creating your anecdotal int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-In Paragraph- Group Member’s N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clude several strategies that hook the reader.  You should include lots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idence, statistics, and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gives the reader lots to contemplate.  You should end this paragraph with your propos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al/ Solution Paragraph – Group Member’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hould represent your proposal and t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uidelines or solu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drive your proposal.  You can be specific here and use real or fake evidence to drive the point.  This is also a good place for satirical or persuasive devi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buttal – Group Member’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should hav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t least 3 opposition stat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your proposal in which you address with evidence –real or contrived- what makes your proposal so perfect.  Use persuasion techniques here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 (Write a brief explanation of the summary of points you will address in the conclusion and what your call to action i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20:43:30Z</dcterms:created>
  <dc:creator>User</dc:creator>
  <dc:description/>
  <dc:language>en-US</dc:language>
  <cp:lastModifiedBy>User</cp:lastModifiedBy>
  <dcterms:modified xsi:type="dcterms:W3CDTF">2007-04-13T13:16:19Z</dcterms:modified>
  <cp:revision>4</cp:revision>
  <dc:subject/>
  <dc:title>Slide 1</dc:title>
</cp:coreProperties>
</file>